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AB45-BD09-4705-8592-C4A36067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154-9B98-4F8F-B3BC-A085D583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47A6-EC16-494F-9576-71763356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C7A3-6C93-486F-8924-C4041764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4266-7BE5-43FD-A8CC-9067A521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E7F-5609-4174-AB8E-9D13BCD3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CD74-87ED-4D95-A2B2-AE923B9F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83A-0573-4287-98FD-7563A247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5A9-BF0A-422C-84C8-1E9F55FD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0C1-D2EE-4003-98FC-8B695325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23EE-AE93-4A20-8F05-DD3D2B59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86C2-1C2E-459D-98B0-004F6DE5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091F-CE81-4D28-9B6F-474A623D8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71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Variable Selectio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and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trol of Confoun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533520" y="609480"/>
            <a:ext cx="822960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58210" r="0" b="19501"/>
          <a:stretch/>
        </p:blipFill>
        <p:spPr>
          <a:xfrm>
            <a:off x="609480" y="198108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611280" y="1295280"/>
            <a:ext cx="8229600" cy="704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rcRect l="19446" t="80508" r="58337" b="7736"/>
          <a:stretch/>
        </p:blipFill>
        <p:spPr>
          <a:xfrm>
            <a:off x="3962520" y="4381560"/>
            <a:ext cx="18288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57869" r="0" b="8030"/>
          <a:stretch/>
        </p:blipFill>
        <p:spPr>
          <a:xfrm>
            <a:off x="611280" y="1504800"/>
            <a:ext cx="8210520" cy="2256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611280" y="838080"/>
            <a:ext cx="8229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57869" r="0" b="8030"/>
          <a:stretch/>
        </p:blipFill>
        <p:spPr>
          <a:xfrm>
            <a:off x="611280" y="1504800"/>
            <a:ext cx="8210520" cy="2256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611280" y="838080"/>
            <a:ext cx="8229600" cy="704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20374" t="80508" r="58337" b="7736"/>
          <a:stretch/>
        </p:blipFill>
        <p:spPr>
          <a:xfrm>
            <a:off x="3886200" y="4572000"/>
            <a:ext cx="17524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58163" r="0" b="7736"/>
          <a:stretch/>
        </p:blipFill>
        <p:spPr>
          <a:xfrm>
            <a:off x="457200" y="2133720"/>
            <a:ext cx="838188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457200" y="1447920"/>
            <a:ext cx="83059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58163" r="0" b="7736"/>
          <a:stretch/>
        </p:blipFill>
        <p:spPr>
          <a:xfrm>
            <a:off x="304920" y="1600200"/>
            <a:ext cx="861048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325440" y="990720"/>
            <a:ext cx="8564400" cy="609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40713" t="81399" r="36284" b="7736"/>
          <a:stretch/>
        </p:blipFill>
        <p:spPr>
          <a:xfrm>
            <a:off x="3429000" y="4952880"/>
            <a:ext cx="19810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58163" r="0" b="7736"/>
          <a:stretch/>
        </p:blipFill>
        <p:spPr>
          <a:xfrm>
            <a:off x="322200" y="1600200"/>
            <a:ext cx="8574120" cy="2209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325440" y="990720"/>
            <a:ext cx="856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58163" r="0" b="7736"/>
          <a:stretch/>
        </p:blipFill>
        <p:spPr>
          <a:xfrm>
            <a:off x="322200" y="1600200"/>
            <a:ext cx="857412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325440" y="990720"/>
            <a:ext cx="8564400" cy="609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rcRect l="20374" t="80508" r="58337" b="7736"/>
          <a:stretch/>
        </p:blipFill>
        <p:spPr>
          <a:xfrm>
            <a:off x="3886200" y="4572000"/>
            <a:ext cx="17524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19776"/>
          <a:stretch/>
        </p:blipFill>
        <p:spPr>
          <a:xfrm>
            <a:off x="533520" y="533520"/>
            <a:ext cx="809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22080"/>
          <a:stretch/>
        </p:blipFill>
        <p:spPr>
          <a:xfrm>
            <a:off x="914400" y="533520"/>
            <a:ext cx="7315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5766"/>
          <a:stretch/>
        </p:blipFill>
        <p:spPr>
          <a:xfrm>
            <a:off x="457200" y="60948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533520" y="322200"/>
            <a:ext cx="822960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380880" y="685800"/>
            <a:ext cx="838224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609480" y="533520"/>
            <a:ext cx="7925040" cy="5937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781680" y="5791320"/>
            <a:ext cx="17528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7512"/>
          <a:stretch/>
        </p:blipFill>
        <p:spPr>
          <a:xfrm>
            <a:off x="304920" y="1752480"/>
            <a:ext cx="8381880" cy="1524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8229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90538"/>
          <a:stretch/>
        </p:blipFill>
        <p:spPr>
          <a:xfrm>
            <a:off x="609480" y="1600200"/>
            <a:ext cx="807876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21322" r="0" b="69217"/>
          <a:stretch/>
        </p:blipFill>
        <p:spPr>
          <a:xfrm>
            <a:off x="608040" y="2257560"/>
            <a:ext cx="8078760" cy="56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09480" y="2971800"/>
            <a:ext cx="7925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90538"/>
          <a:stretch/>
        </p:blipFill>
        <p:spPr>
          <a:xfrm>
            <a:off x="609480" y="1676520"/>
            <a:ext cx="7848720" cy="639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29608" r="0" b="62116"/>
          <a:stretch/>
        </p:blipFill>
        <p:spPr>
          <a:xfrm>
            <a:off x="609480" y="2273400"/>
            <a:ext cx="7848720" cy="469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7772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18T15:46:50Z</dcterms:modified>
  <cp:revision>36</cp:revision>
  <dc:subject/>
  <dc:title>PowerPoint Presentation</dc:title>
</cp:coreProperties>
</file>